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12.png" ContentType="image/png"/>
  <Override PartName="/ppt/media/image7.jpeg" ContentType="image/jpeg"/>
  <Override PartName="/ppt/media/image6.wmf" ContentType="image/x-wmf"/>
  <Override PartName="/ppt/media/image11.png" ContentType="image/pn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3BE98-0CB9-4A86-B349-BC76A8E6C78D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24DE7-9B26-40CD-97F3-E9FB69449BD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06FF-4544-49D2-A363-E9D39D8DE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F1E0-BEDB-4EB7-8562-C01A08DC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6E13-AACB-44C2-BC87-648EA144A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D20B-9493-469B-9B3F-28C03B065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7B37E-E7E6-4A52-AF95-22F3FDBDF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E068-7B0D-4B43-991E-78E4CEF0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113F-AA8B-4133-A7BA-0D499E66E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3059-A21A-4AEB-923F-FA4E2932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B834-3A5F-465A-8847-D43BAA424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B544-CAFB-406A-B779-36E268DAA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8F6A9-4FFF-4659-A2C5-F6C3AA5D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332-6943-460B-A6FF-D83CBF74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2B54F-B977-48AD-9883-9D65F307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B0ECB-8FF1-47B7-9E62-401F9725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B79A1-A768-4302-90D9-26B4FD5C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EB22-207F-48A0-B363-DB95F79B9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FA91-4E31-479E-9BCF-4D31FDC6C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70BFA-3C00-4117-8F5E-EB0D10E5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9469-9A2D-4FFB-B819-39CA4CDA7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029-9992-4078-BCD0-58E0F1D35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6FB-99A4-44E5-A9FD-88169AE4A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FC75-00A2-44C5-882A-3A2B1D3F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CC19-51B9-46AD-B939-5E99FEA6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B71F-8E36-4A50-BD78-18271FEF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B2C51-A670-42BD-B314-279015B0392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28282">
                  <a:alpha val="45098"/>
                </a:srgbClr>
              </a:gs>
              <a:gs pos="100000">
                <a:srgbClr val="87878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d6d6d">
                  <a:alpha val="45098"/>
                </a:srgbClr>
              </a:gs>
              <a:gs pos="100000">
                <a:srgbClr val="9c9c9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spcBef>
                <a:spcPts val="649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2" marL="914400" indent="-246240">
              <a:spcBef>
                <a:spcPts val="649"/>
              </a:spcBef>
              <a:buClr>
                <a:srgbClr val="b2b2b2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3" marL="1187280" indent="-209520">
              <a:spcBef>
                <a:spcPts val="649"/>
              </a:spcBef>
              <a:buClr>
                <a:srgbClr val="969696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4" marL="1461960" indent="-209520">
              <a:spcBef>
                <a:spcPts val="649"/>
              </a:spcBef>
              <a:buClr>
                <a:srgbClr val="80808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C299-C091-467A-90D0-175670BA6041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katie@timeschange.org" TargetMode="External"/><Relationship Id="rId2" Type="http://schemas.openxmlformats.org/officeDocument/2006/relationships/image" Target="../media/image14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cr2"/>
          <p:cNvPicPr/>
          <p:nvPr/>
        </p:nvPicPr>
        <p:blipFill>
          <a:blip r:embed="rId1"/>
          <a:stretch/>
        </p:blipFill>
        <p:spPr>
          <a:xfrm>
            <a:off x="0" y="0"/>
            <a:ext cx="1905120" cy="1828800"/>
          </a:xfrm>
          <a:prstGeom prst="rect">
            <a:avLst/>
          </a:prstGeom>
          <a:ln w="0">
            <a:noFill/>
          </a:ln>
        </p:spPr>
      </p:pic>
      <p:pic>
        <p:nvPicPr>
          <p:cNvPr id="103" name="Title 1" descr=""/>
          <p:cNvPicPr/>
          <p:nvPr/>
        </p:nvPicPr>
        <p:blipFill>
          <a:blip r:embed="rId2"/>
          <a:stretch/>
        </p:blipFill>
        <p:spPr>
          <a:xfrm>
            <a:off x="536400" y="1603440"/>
            <a:ext cx="8455320" cy="22622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Located at 365 Bloor Street East (Bloor/Sherbourne) Suite 1704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oronto, O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05" name="Object 2" descr=""/>
          <p:cNvPicPr/>
          <p:nvPr/>
        </p:nvPicPr>
        <p:blipFill>
          <a:blip r:embed="rId3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rc4"/>
          <p:cNvPicPr/>
          <p:nvPr/>
        </p:nvPicPr>
        <p:blipFill>
          <a:blip r:embed="rId4"/>
          <a:stretch/>
        </p:blipFill>
        <p:spPr>
          <a:xfrm>
            <a:off x="6934320" y="0"/>
            <a:ext cx="2209680" cy="17524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hallway"/>
          <p:cNvPicPr/>
          <p:nvPr/>
        </p:nvPicPr>
        <p:blipFill>
          <a:blip r:embed="rId5"/>
          <a:stretch/>
        </p:blipFill>
        <p:spPr>
          <a:xfrm>
            <a:off x="3429000" y="0"/>
            <a:ext cx="2133720" cy="18288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gr1"/>
          <p:cNvPicPr/>
          <p:nvPr/>
        </p:nvPicPr>
        <p:blipFill>
          <a:blip r:embed="rId6"/>
          <a:stretch/>
        </p:blipFill>
        <p:spPr>
          <a:xfrm>
            <a:off x="5410080" y="0"/>
            <a:ext cx="160020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jobboard1"/>
          <p:cNvPicPr/>
          <p:nvPr/>
        </p:nvPicPr>
        <p:blipFill>
          <a:blip r:embed="rId7"/>
          <a:stretch/>
        </p:blipFill>
        <p:spPr>
          <a:xfrm>
            <a:off x="1905120" y="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8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9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"/>
          <p:cNvPicPr/>
          <p:nvPr/>
        </p:nvPicPr>
        <p:blipFill>
          <a:blip r:embed="rId10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How are we Unique?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pecific to wome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areer Planning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areer Planning Workbook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Educational Counselling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source Centre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Online Useful Links section on website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Opportunities to connect with mentors and local business community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Century Gothic"/>
              </a:rPr>
              <a:t>Enhanced Referral process for Men/Youth</a:t>
            </a:r>
            <a:endParaRPr b="0" lang="en-US" sz="4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21333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Me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Parliament TCET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at 595 Parliament Stree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Newcomer Information Centre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43 Charles Stree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Youth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Century Gothic"/>
              </a:rPr>
              <a:t>YES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555 Richmond Street West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If you have male clients, you can refer them to these locations directly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0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Object 2" descr=""/>
          <p:cNvPicPr/>
          <p:nvPr/>
        </p:nvPicPr>
        <p:blipFill>
          <a:blip r:embed="rId1"/>
          <a:stretch/>
        </p:blipFill>
        <p:spPr>
          <a:xfrm>
            <a:off x="0" y="5257800"/>
            <a:ext cx="1920960" cy="160020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How To Refer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ents can: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all (416) 927- 1900 ex0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Drop In during business hour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ign up for Getting Stared orientation sessio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EO Service Provider: Confirm with client that they are not registered with another agency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         ‘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Job Ready’: Clients that are ready to look  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r work or for training/career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Our Location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365 Bloor Street East Suite 1704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(at Sherbourne Station)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all us: 416 927 1900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Service Hours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Monday - Thursday 9:00 a.m. to 5:00 p.m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Friday 9:00 a.m. to 2:30 p.m.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We are a perfume free environment.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Our Contact Information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904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Katie Didyk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Marketing/Outreach Coordinator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416-927-1900, ext. 222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5f5f5f"/>
                </a:solidFill>
                <a:uFillTx/>
                <a:latin typeface="Century Gothic"/>
                <a:hlinkClick r:id="rId1"/>
              </a:rPr>
              <a:t>katie@timeschange.org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ind us on facebook for up to date employment and career information and advice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We are hiring!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2"/>
          <a:stretch/>
        </p:blipFill>
        <p:spPr>
          <a:xfrm>
            <a:off x="0" y="5143680"/>
            <a:ext cx="2057400" cy="17143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3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4" descr=""/>
          <p:cNvPicPr/>
          <p:nvPr/>
        </p:nvPicPr>
        <p:blipFill>
          <a:blip r:embed="rId4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"/>
          <p:cNvPicPr/>
          <p:nvPr/>
        </p:nvPicPr>
        <p:blipFill>
          <a:blip r:embed="rId5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Facebook_Logo 19.gif"/>
          <p:cNvPicPr/>
          <p:nvPr/>
        </p:nvPicPr>
        <p:blipFill>
          <a:blip r:embed="rId6"/>
          <a:stretch/>
        </p:blipFill>
        <p:spPr>
          <a:xfrm>
            <a:off x="6629400" y="4267080"/>
            <a:ext cx="7034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Who We Are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Non-profit employment community agency helping women with their employment goals across Toront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ounded during the women’s movement in Toronto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Funded by: </a:t>
            </a: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Employment Ontario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, United Way and Ontario Women’s Directorate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perate as a collective agency with staff of 10 and volunteers to assist client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elebrated 3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anniversary last November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EO Service Provider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468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mmitted to providing excellent customer service and client satisfaction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ull suite of services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Focused on employment result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Our Clients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560" y="19051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35-65 from all backgrounds and culture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afe, supportive environment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nadian born citizens, permanent residence, refugee claimant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ome services are available to all clients regardless of status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Majority from St. Jamestown area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ooking to find opportunities to network outside of their community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anguage: Swahili, Spanish, Mandarin, French, Romanian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olunteer Opportunitie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49"/>
              </a:spcBef>
              <a:buClr>
                <a:srgbClr val="ddddd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What We Do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3520" y="19051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ASSISTED 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lient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areer Planning Worksh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Job Search Workshop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Job Placement and Retention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entury Gothic"/>
              </a:rPr>
              <a:t>UNASSISTED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 Client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econd Career Strategy and Ontario Self Employment Benefits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ducational Counselling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sume Clinic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Computer Room (&amp; computer workshops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639720" indent="-245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esource Centre (&amp; job board)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34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0" y="5270400"/>
            <a:ext cx="1905120" cy="15876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Assisted and Unassisted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entury Gothic"/>
              </a:rPr>
              <a:t>Assisted Clients: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ents who require counselling services, attend a workshop, or are referred to other services 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These clients will go into our CAMS-EOIS database system and will be required to give SIN #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entury Gothic"/>
              </a:rPr>
              <a:t>Unassisted Clients: </a:t>
            </a: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lients whose needs are met using the Resource Centre, Resume Clinic, Second Career, or computers, including computer workshop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Eligibility for Assisted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Underemployed/unemployed: 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employment workshops are open for working 20 hours or less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Have a SIN number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Language: ESL Level 6 or LINC level 5 (for all assisted service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Not currently registered at another EO      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service provider (for all assisted services)</a:t>
            </a: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300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Assisted Services</a:t>
            </a: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Job Search Workshop: 4 morning workshop offered each week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areer Planning: Offered every 5 week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Job Placement: based on ability to match skill set of client to employer need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entury Gothic"/>
              </a:rPr>
              <a:t>Unassisted Services</a:t>
            </a:r>
            <a:endParaRPr b="0" lang="en-US" sz="5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Educational counselling: one on one appointment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Second Career and OSEB: applications and referral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mputer Tutorials: independent and flexible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Computer Workshops: Introductory level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969696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entury Gothic"/>
              </a:rPr>
              <a:t>Resource Centre: resources for job search and career planning purposes</a:t>
            </a:r>
            <a:endParaRPr b="0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7" name="Object 2" descr=""/>
          <p:cNvPicPr/>
          <p:nvPr/>
        </p:nvPicPr>
        <p:blipFill>
          <a:blip r:embed="rId1"/>
          <a:stretch/>
        </p:blipFill>
        <p:spPr>
          <a:xfrm>
            <a:off x="0" y="5486400"/>
            <a:ext cx="164628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7848720" y="6172200"/>
            <a:ext cx="109512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tretch/>
        </p:blipFill>
        <p:spPr>
          <a:xfrm>
            <a:off x="5410080" y="6248520"/>
            <a:ext cx="990720" cy="342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tretch/>
        </p:blipFill>
        <p:spPr>
          <a:xfrm>
            <a:off x="3200400" y="6172200"/>
            <a:ext cx="542880" cy="4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4T15:21:27Z</dcterms:created>
  <dc:creator>Katie</dc:creator>
  <dc:description/>
  <dc:language>en-US</dc:language>
  <cp:lastModifiedBy>aholmes</cp:lastModifiedBy>
  <dcterms:modified xsi:type="dcterms:W3CDTF">2011-07-08T18:45:10Z</dcterms:modified>
  <cp:revision>44</cp:revision>
  <dc:subject/>
  <dc:title>Times Change Women’s Employment Service</dc:title>
</cp:coreProperties>
</file>